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2187-DC28-4833-BF85-12A3448BF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42E-4FB3-4239-80D2-82A5565C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379F-C069-40D0-8D80-E01B00EF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4C5-2549-4861-99AD-F309B323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DEE-6E98-4328-AFE7-BDDEE475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4D2-EA59-4F56-899E-12BF355C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D6B7-A233-445D-85FB-714A9AC2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BC5-E6D3-4038-8A57-60ADC94F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938F-8889-4354-AB59-3A867385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7BC-590E-40D0-84D4-7DE58BFA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D75-EF0B-43BA-BF56-B53D7990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16D-6991-44D5-B154-A6ADD250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3D67-C05E-441D-8291-2C16EF17D3D4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-1158840"/>
            <a:ext cx="6858000" cy="10305000"/>
            <a:chOff x="0" y="-1158840"/>
            <a:chExt cx="6858000" cy="10305000"/>
          </a:xfrm>
        </p:grpSpPr>
        <p:sp>
          <p:nvSpPr>
            <p:cNvPr id="42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apple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1714680" y="4419720"/>
              <a:ext cx="3429000" cy="3208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-1158840"/>
            <a:ext cx="6858000" cy="12088080"/>
            <a:chOff x="0" y="-1158840"/>
            <a:chExt cx="6858000" cy="12088080"/>
          </a:xfrm>
        </p:grpSpPr>
        <p:sp>
          <p:nvSpPr>
            <p:cNvPr id="46" name=""/>
            <p:cNvSpPr/>
            <p:nvPr/>
          </p:nvSpPr>
          <p:spPr>
            <a:xfrm>
              <a:off x="0" y="-1158840"/>
              <a:ext cx="685800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3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r>
                <a:rPr b="0" lang="en-US" sz="370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370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7269120"/>
              <a:ext cx="5257800" cy="36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banana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828800" y="4191120"/>
              <a:ext cx="3525840" cy="346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-990720"/>
            <a:ext cx="74674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Dd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dog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338616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407880" y="-1114560"/>
            <a:ext cx="746892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Gg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7269120"/>
            <a:ext cx="5257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Tahoma"/>
              </a:rPr>
              <a:t>gorilla</a:t>
            </a:r>
            <a:endParaRPr b="0" lang="en-US" sz="11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" y="4114800"/>
            <a:ext cx="34732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609480" y="-1219320"/>
            <a:ext cx="7467480" cy="10365480"/>
            <a:chOff x="-609480" y="-1219320"/>
            <a:chExt cx="7467480" cy="10365480"/>
          </a:xfrm>
        </p:grpSpPr>
        <p:sp>
          <p:nvSpPr>
            <p:cNvPr id="56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Hh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2120" y="726912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hat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10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-433440" y="-1190520"/>
            <a:ext cx="7467480" cy="10365120"/>
            <a:chOff x="-433440" y="-1190520"/>
            <a:chExt cx="7467480" cy="10365120"/>
          </a:xfrm>
        </p:grpSpPr>
        <p:sp>
          <p:nvSpPr>
            <p:cNvPr id="60" name=""/>
            <p:cNvSpPr/>
            <p:nvPr/>
          </p:nvSpPr>
          <p:spPr>
            <a:xfrm>
              <a:off x="-433440" y="-11905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Ii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3816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igloo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90720" y="4495680"/>
            <a:ext cx="45925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461880" y="-1190520"/>
            <a:ext cx="7467480" cy="10365120"/>
            <a:chOff x="-461880" y="-1190520"/>
            <a:chExt cx="7467480" cy="10365120"/>
          </a:xfrm>
        </p:grpSpPr>
        <p:sp>
          <p:nvSpPr>
            <p:cNvPr id="64" name=""/>
            <p:cNvSpPr/>
            <p:nvPr/>
          </p:nvSpPr>
          <p:spPr>
            <a:xfrm>
              <a:off x="-461880" y="-1190520"/>
              <a:ext cx="74674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9720" y="7297560"/>
              <a:ext cx="525780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73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700" spc="-1" strike="noStrike">
                  <a:solidFill>
                    <a:srgbClr val="000000"/>
                  </a:solidFill>
                  <a:latin typeface="Tahoma"/>
                </a:rPr>
                <a:t>jeep</a:t>
              </a:r>
              <a:endParaRPr b="0" lang="en-US" sz="11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5800" y="5181480"/>
            <a:ext cx="4581360" cy="2495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0880" y="-1143000"/>
            <a:ext cx="746928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spcBef>
                <a:spcPts val="25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700" spc="-1" strike="noStrike">
                <a:solidFill>
                  <a:srgbClr val="000000"/>
                </a:solidFill>
                <a:latin typeface="Verdana"/>
              </a:rPr>
              <a:t>Jj</a:t>
            </a:r>
            <a:endParaRPr b="0" lang="en-US" sz="407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8" name=""/>
          <p:cNvSpPr/>
          <p:nvPr/>
        </p:nvSpPr>
        <p:spPr>
          <a:xfrm>
            <a:off x="2968560" y="108900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69" name=""/>
          <p:cNvSpPr/>
          <p:nvPr/>
        </p:nvSpPr>
        <p:spPr>
          <a:xfrm>
            <a:off x="2052720" y="7924680"/>
            <a:ext cx="253800" cy="31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70" name=""/>
          <p:cNvSpPr/>
          <p:nvPr/>
        </p:nvSpPr>
        <p:spPr>
          <a:xfrm>
            <a:off x="2581200" y="281160"/>
            <a:ext cx="712800" cy="385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609480" y="-1219320"/>
            <a:ext cx="7467480" cy="11508480"/>
            <a:chOff x="-609480" y="-1219320"/>
            <a:chExt cx="7467480" cy="11508480"/>
          </a:xfrm>
        </p:grpSpPr>
        <p:sp>
          <p:nvSpPr>
            <p:cNvPr id="72" name=""/>
            <p:cNvSpPr/>
            <p:nvPr/>
          </p:nvSpPr>
          <p:spPr>
            <a:xfrm>
              <a:off x="-609480" y="-1219320"/>
              <a:ext cx="7467480" cy="629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254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700" spc="-1" strike="noStrike">
                  <a:solidFill>
                    <a:srgbClr val="000000"/>
                  </a:solidFill>
                  <a:latin typeface="Verdana"/>
                </a:rPr>
                <a:t>Kk</a:t>
              </a:r>
              <a:endParaRPr b="0" lang="en-US" sz="407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7269120"/>
              <a:ext cx="52578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ahoma"/>
                </a:rPr>
                <a:t>kangaroo</a:t>
              </a:r>
              <a:endParaRPr b="0" lang="en-US" sz="9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40388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-609480" y="-900000"/>
            <a:ext cx="7467480" cy="10197000"/>
            <a:chOff x="-609480" y="-900000"/>
            <a:chExt cx="7467480" cy="10197000"/>
          </a:xfrm>
        </p:grpSpPr>
        <p:sp>
          <p:nvSpPr>
            <p:cNvPr id="76" name=""/>
            <p:cNvSpPr/>
            <p:nvPr/>
          </p:nvSpPr>
          <p:spPr>
            <a:xfrm>
              <a:off x="-609480" y="-900000"/>
              <a:ext cx="7467480" cy="474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spcBef>
                  <a:spcPts val="19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500" spc="-1" strike="noStrike">
                  <a:solidFill>
                    <a:srgbClr val="000000"/>
                  </a:solidFill>
                  <a:latin typeface="Verdana"/>
                </a:rPr>
                <a:t>Mm</a:t>
              </a:r>
              <a:endParaRPr b="0" lang="en-US" sz="305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7588080"/>
              <a:ext cx="525780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66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600" spc="-1" strike="noStrike">
                  <a:solidFill>
                    <a:srgbClr val="000000"/>
                  </a:solidFill>
                  <a:latin typeface="Tahoma"/>
                </a:rPr>
                <a:t>melon</a:t>
              </a:r>
              <a:endParaRPr b="0" lang="en-US" sz="10600" spc="-1" strike="noStrike">
                <a:solidFill>
                  <a:srgbClr val="000000"/>
                </a:solidFill>
                <a:latin typeface="Times New Roman (Hebrew)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4581360" cy="33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30T18:41:34Z</dcterms:created>
  <dc:creator>רדמי אייל</dc:creator>
  <dc:description/>
  <dc:language>en-US</dc:language>
  <cp:lastModifiedBy>AYAD</cp:lastModifiedBy>
  <cp:lastPrinted>1998-09-06T20:29:36Z</cp:lastPrinted>
  <dcterms:modified xsi:type="dcterms:W3CDTF">2007-10-11T15:24:31Z</dcterms:modified>
  <cp:revision>30</cp:revision>
  <dc:subject/>
  <dc:title>ללא כותרת שקופית</dc:title>
</cp:coreProperties>
</file>