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7187-1E37-434E-86A2-3AFD2C62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18B-C155-43D8-ADEE-E92AA379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AD4B-4282-4E2C-A98A-B21F5877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9AE1-F2A1-4A54-ACFA-3DEFB173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E5E7-20D2-410B-9840-2481BC24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E124-6600-4B48-8A65-4DDDE1D7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C711-BD61-4D34-9319-B9B70A09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FD2D-1517-4A04-B77F-47B6BA5D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E2D-3EF2-414E-A503-71319645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2D55-568F-4225-9133-AC7CA59B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17E1-0E69-477D-A215-C9940C86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2175-F867-42F8-9529-71CEBBBE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9408-7092-419A-A404-36D9978A2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نتشرف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بتقديم عرض سعر لبرنامج  إدارة الصالونات ( المعـتمد )  حيث  يعمل البرنام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على تنفيذ جميع الإجراءات كالتالي :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العملاء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: إدخال بيانات العملاء - عناوين العملاء  - طلبات العملاء للإعمال - حسا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عملاء  -  المدفوع من الحساب - المتبقي لدى العميلة  من  قيمة  ال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لمواعيد  : تسجيل المواعيد - حجز المواعيد - جدول مواعيد للموظفات - تنفيذ مواعي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ل موظفة  حسب  موعدهـا  مع العميلة  -  معرفة مواعيد باقي الموظف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لإعمال    : نوع العمل -  قيمة العمل -عدد الإعمال - مجموع الإعمال - حساب ال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تى تم تنفي</a:t>
            </a:r>
            <a:r>
              <a:rPr b="1" lang="ar-KW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ذها  -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منفذة  الإعم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وظفين : إدخال بيانات الموظفين - حساب النسب للموظفين أن وجد - مجموع 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موظفة  - مجموع إعمال كل موظفة بالصالون على حدة  -  مجموع إعم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كل الموظفين - صافى الإعمال - دليل التلفون - مستعرض الصور- تسريح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وقصات الشعر -  فورم الشعر -  ماكياج الوجه -  رسم العيون - رسم الشفا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كريمات العطور  - النقش والرسم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تصنيع :   طريقة خلط الصبغات - الكميات - الأصناف - اللون - ناتج التركيبة والتصن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صروفات : مصروفات نثرية  -  مصروفات مشتريات  -  سندات الصرف  -  فوات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كاشير  -  قيمة الصرف  -  أنوع الصر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خزن :   إنشاء مخزن -  تكويد المخزن  -  مخزن أول المدة  -  إضافة مخازن أخر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تحويل بين المخازن -  مخزن آخر الم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أصناف  : بحث - صنف جديد - تركيب صنف جديد - تعديل صنف - إنشاء مخزن جديد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قارير المخازن والأفرع - مخزن أول المدة - تقارير مخازن آخر المدة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جرد بسعر التكلفة - جرد باسم المخزن - تقدير قيمة المخزن آخرالمدة وذل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لتقدير إجمالي قيمة المخزن المالية في آخر المد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ستعلامات عن الأصناف وترتيبها حسب :  رقم الصنف - أسم الصنف - النوع  - الكود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عرض شجرة الأصناف  وذلك لعرض شجرة الأصناف الخاصة بالصا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ستلام أصناف : إضافة صنف جديد : رقم الصنف -أسم الصنف - نوع الصنف - صن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عادي وهو صنف الذي تجري عليه عمليات الشراء والبيع  - صنف خدمي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وهو الصنف خدمات  (  المستخدم  داخل الصالون 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تحديد الكميات والمخازن :- يتم إدخال الكميات الخاصة بالصنف في بداية المدة وتظهر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مباشرة تلك الكمية في الكمية بالوحدة -الشد أو الوحدة الكبرى-الكمية الك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بالمخازن  -  سعر تكلفة الوحدة -  سعر البيع  بار كود   يتم إدخال البار ك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خاص بالصنف -  تاريخ الصلاحية    يتم إدخال تاريخ صلاحية الصنف            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حد التنبيه بنفاذ الكمية   يتم إدخال الحد الأدنى لكمية المنتج داخل المخاز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والتي يعطي  البرنامج تقرير بها  في  حالة وصول كمية المنتج لهذا الحد 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فواتير المشتريات كالتالي :-  رقم الفاتورة   يتم إدخال رقم الفاتورة - التاريخ يتم إدخ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اريخ الفاتورة   -  أسم المورد  أو إضافة مورد جديد  - استخدام البار ك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لإدراج الأصناف في الفاتورة يتم إدخال البار كود الخاص بالصنف والذي سب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إدخاله عند إضافة الصنف للمخزن   -  أسم الصنف  لإدراج الأصناف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فاتورة إما باستخدام البار كود أو كتابة أول حرف في  قائمة  الأصناف  ث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ختياره من  الأصناف  التي تبدأ بهذا الحرف ويتم  اختيار ة  ويتم  إدراجه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فاتورة  الإجمالي يعرض إجمالي الفاتورة التي تم شراؤها - الخصم لإدراج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ي خصومات على الفاتورة إن وجد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مصروفات المشتريات :   لإدخال مصروفات الفاتورة من شحن وخلافه مع ملاحظة أن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سيتم إضافة  مصروفات المشتريات على سعر التكلفة الحقيقي للصنف - نظ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دفع   والمقصود دفع نقدي أو آجل أو عن طريق شيك  -  الإجمالي  -  المبل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مدفوع المبلغ الباقي  وهو ما تبقى من قيمة الفاتورة لم يدفع أو قيمة الفاتو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املة إذا كانت  آجلة  -  تصدير الفاتورة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فواتير المبيعات كالتالي :-  رقم الفاتورة   وهو يكون تسلسلي ويمكن تغييره  - التاريخ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سم العميل - أسم الصنف لإدراج الأصناف في الفاتورة إما باستخدام البار ك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و كتابة أول حرف في  قائمة الأصناف ويتم اختيار الصنف الذي نريد إدراج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في الفاتورة  - الإجمالي - الخصم -  نظام الدفع والمقصود به هو إما دفع نقد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و آجل أو عن طريق الكي نت أو  أن يجمع بين   الثلاث عمليات (  نقدي  - ك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نت  -  آجل  ) . المبلغ المدفوع   وهو المبلغ الذي تم دفعه من قيمة الفاتور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مبلغ الباقي وهو ما تبقى من قيمة الفاتورة لم يدفع أو قيمة الفاتورة كاملة إذ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انت آجلة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عمليات التي يمكن إجراؤها على العملاء : بحث وذلك للبحث عن عميل جديد في حا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إضافة عميل جديد  -  تعديل  - لتعديل بيانات عميل معين ترتيب  -  لترتي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عملاء حسب  الاسم أو  حسب الرقم  -  مبيعات العملاء وذلك لعمل فات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مبيعات للعميل - كشف حساب وذلك لمعرفة كشف الحساب الخاص بالعمي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تقرير سريع   وذلك لمعرفة مشتريات  العميل  خلال فترة معينة يتم تحدد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كشف أسماء المدينون   لمعرفة أسماء المدينين لدى الشركة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وردين  : العمليات التي يمكن إجراؤها على الموردين : بحث وذلك للبحث عن مورد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جديد في حالة إضافة مورد جديد - تعديل بيانات مورد معين - استلام أصنا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قرير سريع وذلك لمعرفة تقرير سريع عن مورد معين - كشف أسماء الدائنون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ات متعددة : استعلام عن الأصناف التي  وصلت حد الطلب - استعلام عن الأصن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تي نفذت كمياتها استعلام عن الأصناف التي سوف تنتهي خلال الشهر-استعل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عن إعمال عميل داخل الصالون خلال فترة زمنية حسب التحديد خلال مدة معين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ستعلامات عن مبيعات  موظفة معينة خلال فت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 عن المبيعات خلال فترة ( يوم - أسبوع - شهر- نصف سنة - سنة - عدة سنوات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 عن المشتريات  خلال فترة(يوم - أسبوع- شهر- نصف سنة - سنة - عدة سنوات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نظام الصلاحيات للمستخدمين  :   تحديد الصلاحيات لكل مستخدم  -  إضافة مستخدمين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حذف مستخدم  -  تغير كلمة المرور  -   تعديل وتغيير صلاحيات المستخدمين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من قبل المسئول بأي وق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بالإضافة إلى البنود الفرعية المدرجة  بالبرنامج  والتقارير التفصيلية.  سهول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في الاستخدام  وسرعة البحث  إمكانية التعديل والإضافة على  البرنامج م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إمكانية عمل البرنامج على الشبكة  (  إمكانية عمل نسخة  احتياطية من قاع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بيانات  يدوى  أو  تلقائي  بالإضافة إلى  استرجاع  قاعدة البيانات  في حا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حدوث تلف آو عطل بالجهاز  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فالة  وتدريب على البرنامج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ما يوجد شرح وافى على استخدام والتعامل مع نواف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راجين أن ينال عرضنا هذا قبولكم ، وأضعين تحت تصرفكم إمكانياتنا وخدماتنا الفنية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                           مجال تقنية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5-01T00:06:58Z</dcterms:modified>
  <cp:revision>20</cp:revision>
  <dc:subject/>
  <dc:title>عرض تقديمي من PowerPoint</dc:title>
</cp:coreProperties>
</file>