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A930-7A73-418B-AA39-E904A0A8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AFF5-2F70-46BC-8781-A44B2156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0FA-0E44-4D32-8144-7BBD6C02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89F0-2FBE-4064-A400-676B64E83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07D6-3D36-440C-918B-DA9D9E6C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6B9-D34B-4E26-B486-770CD2A0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DF92-318C-483D-903C-843D371A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D640-66B7-462C-B846-F0F9CC81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1D0-8B5B-4AEE-985D-1EA13518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F5CA-6246-4A65-A3BF-916485C8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70AA-6ABC-49DD-BE3C-2C44AC64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E25-EC3F-491E-A90C-8BB527B2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6C34-3F2A-4A0E-9A27-4A3AD93D0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936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20000"/>
              </a:gs>
            </a:gsLst>
            <a:path path="rect">
              <a:fillToRect l="50000" t="50000" r="50000" b="50000"/>
            </a:path>
          </a:gradFill>
          <a:ln w="104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 اعزائى الموقرين نأسف على الازعاج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حرصا منا على المساهمة فى تطوير العمل والانجاز الدقيق والمصلحة المشتركة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نتشرف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بتقديم عرض سعر لبرنامج  إدارة الصالونات ( المعـتمد )  حيث  يعمل البرن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على تنفيذ جميع الإجراءات كالتالي :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العملاء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: إدخال بيانات العملاء - عناوين العملاء  - طلبات العملاء للإعمال - حسا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عملاء  -  المدفوع من الحساب - المتبقي لدى العميلة  من  قيمة 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مواعيد  : تسجيل المواعيد - حجز المواعيد - جدول مواعيد للموظفات - تنفيذ مواعي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ل موظفة  حسب  موعدهـا  مع العميلة  -  معرفة مواعيد باقي الموظف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لإعمال    : نوع العمل -  قيمة العمل -عدد الإعمال - مجموع الإعمال - حساب ال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ى تم تنفي</a:t>
            </a:r>
            <a:r>
              <a:rPr b="1" lang="ar-KW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ذها  -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منفذة  ال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ظفين : إدخال بيانات الموظفين - حساب النسب للموظفين أن وجد - مجموع إ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وظفة  - مجموع إعمال كل موظفة بالصالون على حدة  -  مجموع إعم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ل الموظفين - صافى الإعمال - دليل التلفون - مستعرض الصور- تسريح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وقصات الشعر -  فورم الشعر -  ماكياج الوجه -  رسم العيون - رسم الشفا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ريمات العطور  - النقش والرسم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تصنيع :   طريقة خلط الصبغات - الكميات - الأصناف - اللون - ناتج التركيبة والتصن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صروفات : مصروفات نثرية  -  مصروفات مشتريات  -  سندات الصرف  -  فوات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كاشير  -  قيمة الصرف  -  أنوع الصر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خزن :   إنشاء مخزن -  تكويد المخزن  -  مخزن أول المدة  -  إضافة مخازن أخر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تحويل بين المخازن -  مخزن آخر الم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أصناف  : بحث - صنف جديد - تركيب صنف جديد - تعديل صنف - إنشاء مخزن جديد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ارير المخازن والأفرع - مخزن أول المدة - تقارير مخازن آخر المدة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رد بسعر التكلفة - جرد باسم المخزن - تقدير قيمة المخزن آخرالمدة وذل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تقدير إجمالي قيمة المخزن المالية في آخر المدة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علامات عن الأصناف وترتيبها حسب :  رقم الصنف - أسم الصنف - النوع  - الكود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رض شجرة الأصناف  وذلك لعرض شجرة الأصناف الخاصة بالصال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استلام أصناف : إضافة صنف جديد : رقم الصنف -أسم الصنف - نوع الصنف - صن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عادي وهو صنف الذي تجري عليه عمليات الشراء والبيع  - صنف خدمي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هو الصنف خدمات  (  المستخدم  داخل الصالون  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تحديد الكميات والمخازن :- يتم إدخال الكميات الخاصة بالصنف في بداية المدة وتظهر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مباشرة تلك الكمية في الكمية بالوحدة -الشد أو الوحدة الكبرى-الكمية الك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مخازن  -  سعر تكلفة الوحدة -  سعر البيع  بار كود   يتم إدخال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خاص بالصنف -  تاريخ الصلاحية    يتم إدخال تاريخ صلاحية الصنف            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 التنبيه بنفاذ الكمية   يتم إدخال الحد الأدنى لكمية المنتج داخل المخاز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والتي يعطي  البرنامج تقرير بها  في  حالة وصول كمية المنتج لهذا الحد 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شتريات كالتالي :-  رقم الفاتورة   يتم إدخال رقم الفاتورة - التاريخ يتم إدخا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اريخ الفاتورة   -  أسم المورد  أو إضافة مورد جديد  - استخدام البار كو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لإدراج الأصناف في الفاتورة يتم إدخال البار كود الخاص بالصنف والذي سب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دخاله عند إضافة الصنف للمخزن   -  أسم الصنف  لإدراج الأصناف ف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إما باستخدام البار كود أو كتابة أول حرف في  قائمة  الأصناف  ث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ختياره من  الأصناف  التي تبدأ بهذا الحرف ويتم  اختيار ة  ويتم  إدراجه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فاتورة  الإجمالي يعرض إجمالي الفاتورة التي تم شراؤها - الخصم لإدراج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ي خصومات على الفاتورة إن وجد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مصروفات المشتريات :   لإدخال مصروفات الفاتورة من شحن وخلافه مع ملاحظة أنه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سيتم إضافة  مصروفات المشتريات على سعر التكلفة الحقيقي للصنف - نظ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دفع   والمقصود دفع نقدي أو آجل أو عن طريق شيك  -  الإجمالي  -  المبل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مدفوع المبلغ الباقي  وهو ما تبقى من قيمة الفاتورة لم يدفع أو قيمة الفاتو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ملة إذا كانت  آجلة  -  تصدير الفاتورة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فواتير المبيعات كالتالي :-  رقم الفاتورة   وهو يكون تسلسلي ويمكن تغييره  - التاريخ  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سم العميل - أسم الصنف لإدراج الأصناف في الفاتورة إما باستخدام البار كو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كتابة أول حرف في  قائمة الأصناف ويتم اختيار الصنف الذي نريد إدراج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فاتورة  - الإجمالي - الخصم -  نظام الدفع والمقصود به هو إما دفع نقد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أو آجل أو عن طريق الكي نت أو  أن يجمع بين   الثلاث عمليات (  نقدي  - ك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نت  -  آجل  ) . المبلغ المدفوع   وهو المبلغ الذي تم دفعه من قيمة الفاتورة 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مبلغ الباقي وهو ما تبقى من قيمة الفاتورة لم يدفع أو قيمة الفاتورة كاملة إذ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كانت آجل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عمليات التي يمكن إجراؤها على العملاء : بحث وذلك للبحث عن عميل جديد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إضافة عميل جديد  -  تعديل  - لتعديل بيانات عميل معين ترتيب  -  لترت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عملاء حسب  الاسم أو  حسب الرقم  -  مبيعات العملاء وذلك لعمل فات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بيعات للعميل - كشف حساب وذلك لمعرفة كشف الحساب الخاص بالعم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تقرير سريع   وذلك لمعرفة مشتريات  العميل  خلال فترة معينة يتم تحدد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كشف أسماء المدينون   لمعرفة أسماء المدينين لدى الشركة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لموردين  : العمليات التي يمكن إجراؤها على الموردين : بحث وذلك للبحث عن مورد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جديد في حالة إضافة مورد جديد - تعديل بيانات مورد معين - استلام أصنا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تقرير سريع وذلك لمعرفة تقرير سريع عن مورد معين - كشف أسماء الدائنون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ات متعددة : استعلام عن الأصناف التي  وصلت حد الطلب - استعلام عن الأصن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تي نفذت كمياتها استعلام عن الأصناف التي سوف تنتهي خلال الشهر-استعلا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عن إعمال عميل داخل الصالون خلال فترة زمنية حسب التحديد خلال مدة معين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ستعلامات عن مبيعات  موظفة معينة خلال فت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بيعات خلال فترة ( يوم - أسبوع - شهر- نصف سنة - سنة - عدة سنوات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استعلام عن المشتريات  خلال فترة(يوم - أسبوع- شهر- نصف سنة - سنة - عدة سنوات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ultan normal"/>
              </a:rPr>
              <a:t>نظام الصلاحيات للمستخدمين  :   تحديد الصلاحيات لكل مستخدم  -  إضافة مستخدمين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حذف مستخدم  -  تغير كلمة المرور  -   تعديل وتغيير صلاحيات المستخدمين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من قبل المسئول بأي وقت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بالإضافة إلى البنود الفرعية المدرجة  بالبرنامج  والتقارير التفصيلية.  سهول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في الاستخدام  وسرعة البحث  إمكانية التعديل والإضافة على  البرنامج م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إمكانية عمل البرنامج على الشبكة  (  إمكانية عمل نسخة  احتياطية من قاع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يانات  يدوى  أو  تلقائي  بالإضافة إلى  استرجاع  قاعدة البيانات  في حا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حدوث تلف آو عطل بالجهاز   آو فقدان البيانات من البرنامج 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البرنامج  مصمم بلغة الفيجوال بيسك  وقاعدة  البيانات بلغ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SQL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فالة  وتدريب على البرنامج 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0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كما يوجد شرح وافى على استخدام والتعامل مع نواف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البرنامج بالصوت والصور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راجين أن ينال عرضنا هذا قبولكم ، وأضعين تحت تصرفكم إمكانياتنا وخدماتنا الفنية ف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ultan normal"/>
              </a:rPr>
              <a:t>                                           مجال تقنية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مع تحيات إم إس للحلول المتكاملة والبرمج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احدى فروع مجموعة سلطان السالم ومحمود عبدالله التجارية  ذ.م.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دولة الكويت – حولى – شارع تونس – مقابل بنك الكويت والشرق الاوس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ت: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2647029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&amp;  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0096560247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msn_200@hotmail.com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 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Sultan norm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Sultan norm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21:58:57Z</dcterms:created>
  <dc:creator> </dc:creator>
  <dc:description/>
  <dc:language>en-US</dc:language>
  <cp:lastModifiedBy> </cp:lastModifiedBy>
  <dcterms:modified xsi:type="dcterms:W3CDTF">2007-05-01T00:06:58Z</dcterms:modified>
  <cp:revision>20</cp:revision>
  <dc:subject/>
  <dc:title>عرض تقديمي من PowerPoint</dc:title>
</cp:coreProperties>
</file>