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44F3-A9F7-4244-AA1E-BE012F1E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BCE2-6A35-4D56-9DCE-77A06D83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EFCD-A255-4BEC-B80B-CABCF694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8A41-86CA-450F-BACB-F5796BFD9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EEA0-86B6-47F5-A070-ACD5F752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79CD-177C-44F2-9539-224489B1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C26E-3134-45E6-890F-55305DF5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1F8B-0681-48B0-B45B-F456C0FC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FA0B-C745-4DA4-8D2B-126C68C8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2553-D18D-40BB-9E9E-8DE623F3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57A1-EDC0-4F3D-9077-730822E7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EE04-D6A3-45E4-A8DA-D524E58A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7A7B-2DD2-4088-9FEB-58DF04576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93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d20000"/>
              </a:gs>
            </a:gsLst>
            <a:path path="rect">
              <a:fillToRect l="50000" t="50000" r="50000" b="50000"/>
            </a:path>
          </a:gradFill>
          <a:ln w="104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 اعزائى الموقرين نأسف على الازعاج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رصا منا على المساهمة فى تطوير العمل والانجاز الدقيق والمصلحة المشتركة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بعرض  سعر  لبرنامج   (   المعتمد)    لادارة  وبيع وشراء وتأجير العقارات حيث ي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البرنامج على تنفيذ جميع الإجراءات من خلال عدة بنود إدارية أساسية وهي كالتالي 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 قاعدة بيانات لاستيعاب مالا نهاية من البيانات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تنبيه بالمستأجرين المتأخرين بدفع الإيجار- تنبيه بعقود الإيجار التي أوشكت عل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انتهاء - تنبيه بالشقق الخالية - تنبيه بموعد قضايا المستأجرين - تنبيه بالمواعي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إدخال بيانات العقار - المستأجرين - الصيانة  - فواتـير -  سندات الصرف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لمصروفات - الإيرادات  - سلوكيات المستأجرين - متابعة  القضايا - المراسلات 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عرض والطلب  -  أرشيف البيع  - أرشيف التأجير  - تقييم العقار - حساب النسبة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مخططات والخرائط  - المكاتب والعملاء -  الدلالين - المندوبين - حارس العقار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عقود  - وصولات  الإيجار -  ميزانية سنوية للعقار - أرباح وخسائر للعقار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 إدارة عقارات الغير :  إدخال بيانات أصحاب العقارات - استعلام عن عقارات مال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معين  -  استعلام عن عقار مشترك مع تحديد نسبة الشركاء -  استعلامات أخرى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إضافة عقار  - إضافة مستأجرين  - تعديل بيانات عقار- حذف بيانات عقار- حذ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كل - تحويل عقار للأرشيف – اضافة شركاء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الحسابات :  الايرادات - القيد اليومي - الصندوق- البنك  والفرع - إيداعات البنو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سحب من البنوك- استعلامات عن الحسابات- تقارير متعددة الصندوق والايراد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6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 كشوف عقار حسب   :  الدخل -  الحالة  -  المنطقة - السعر -  السوم - المحص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قطعة  - الشارع -  صاحب العقار  - عقارات مشتركة – عقارات خاصة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7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الإيجارات : طلب تأجير - عقود الإيجارات - المتأخرين بسداد الإيجارات - الشق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المستأجرة - الشقق الخالية- سلوكيات المستأجرين - التأمينات الخاصة بالمستأج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( كهرباء - مالي - تأمينات اخرى  )  - قضايا المستأجرين - متابعة القضايا 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استعلامات القضايا  المستمرة والمنتهية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8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المصروفات والصيانة : أنواع الصيانة - أنواع المصروفات -  فواتير الصيانة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منفذ الصيانة - صيانة الوحدات والشقق - سندات صرف - استعلام عن مصروف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وصيانة عقار معين  -  استعلام عن كل العقارات معا -  استعلامات أخرى ع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صيانة والمصروفات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9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-  الأرشيف الإلكتروني : أرشيف العقارات المباعة -أرشيف العقارات التي تم تأجيره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-  أرشيف الخرائط - أرشيف المستأجرين المنتهية  عقودهم – حافظة مستند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مستأجرين والاستعلام عنها حسب نوع المستند  – أرشيف صور العقارات -  )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العرض ( عرض عقارات لدي المكتب  -  عرض عقارات لدي  الأفراد  -  عر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عقـارات لدي العملاء-عرض عقارات للإيجار- عقارات تم بيعها – عقارات ت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تأجيرها - تقرير مصور عن العقار المعروض – صور عن العقار -عقارات مؤج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لمراسلات والكتب الصادرة 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1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الطلب ( العقارات المطلوبة - حسب الشارع - حسب المنطقة - السعر- المندو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حد  -  الحالة  -   تقرير مصور   عن العقار المطلوب)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 استعلامات متعددة برقم العقار - باسم صاحب العقار- الشارع - المنطقة - القطع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لسوم  - نوع العقار -  قيمة العقار -  الحالة - الحد  العميل أو المكتب - الدل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ستعلام بتاريخ العرض - استعلام عن المستأجرين -  استعلام عن إيرادات عق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ستعلام عن مصروفات   عقار -  استعلام عن مشاكل المستأجرين  -  استعلا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عن الوحدات والشقق الخالية   -  مجموع المؤجر  -  مجموع الخالي  -   أخرى .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المنبه الشخصي : إضافة رسائل تذكارية خاصة بكل مستخدم للبرنامج- تنبي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 بالرسائل حسب الوقت المحدد من قبل المستخدم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4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تنبيه بالعقود التي انتهت مذ فترة ومطلوب تجديد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15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- نظام الصلاحيات للمستخدمين  :   تحديد الصلاحيات لكل مستخدم  -  إضاف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مستخدمين -  حذف مستخدم  -  تغير   كلمة المرور –  تعديل وتغير صلاحي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المستخدمين من قبل  المسئول بأي وق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بالإضافة إلى البنود الفرعية المدرجة بالبرنامج والتقارير التفصيلية. سهوله  ف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الاستخدام  وسرعة البحث  إمكانية التعديل والإضافة على البرنامج  مع إمكان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عمل البرنامج على الشبكة  (  إمكانية عمل نسخة  احتياطية من قاعدة البيان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يدوى  أو  تلقائي بالإضافة إلى استرجاع قاعدة البيانات  في حالة حدوث تلف آ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عطل بالجهاز آو فقدان البيانات من البرنامج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كما يوجد شرح وافى على استخدام والتعامل مع نوافذ البرنامج بالصوت والص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كفالة  وتدريب على البرنامج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كما يوجد شرح وافى على استخدام والتعامل مع نواف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برنامج بالصوت والص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راجين أن ينال عرضنا هذا قبولكم ، وأضعين تحت تصرفكم إمكانياتنا وخدماتنا الفنية ف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                           مجال تقنية المعلو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80"/>
                </a:solidFill>
                <a:latin typeface="Arial"/>
                <a:ea typeface="Arial"/>
              </a:rPr>
              <a:t>                    (( </a:t>
            </a:r>
            <a:r>
              <a:rPr b="1" lang="ar-SA" sz="2400" spc="-1" strike="noStrike">
                <a:solidFill>
                  <a:srgbClr val="ffff00"/>
                </a:solidFill>
                <a:latin typeface="Arial"/>
                <a:cs typeface="Arial"/>
              </a:rPr>
              <a:t>شعارنا خدمة ما بعد بيع البرنامج أهم من البرنامج</a:t>
            </a:r>
            <a:r>
              <a:rPr b="1" lang="ar-SA" sz="2400" spc="-1" strike="noStrike">
                <a:solidFill>
                  <a:srgbClr val="800080"/>
                </a:solidFill>
                <a:latin typeface="Arial"/>
                <a:ea typeface="Arial"/>
              </a:rPr>
              <a:t> 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مع تحيات إم إس للحلول المتكاملة والبرمج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احدى فروع مجموعة سلطان السالم ومحمود عبدالله التجارية  ذ.م.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دولة الكويت – حولى – شارع تونس – مقابل بنك الكويت والشرق الاوس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ت: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2647029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&amp;  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60247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msn_200@hotmail.com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21:58:57Z</dcterms:created>
  <dc:creator> </dc:creator>
  <dc:description/>
  <dc:language>en-US</dc:language>
  <cp:lastModifiedBy> </cp:lastModifiedBy>
  <dcterms:modified xsi:type="dcterms:W3CDTF">2007-05-03T00:02:59Z</dcterms:modified>
  <cp:revision>29</cp:revision>
  <dc:subject/>
  <dc:title>عرض تقديمي من PowerPoint</dc:title>
</cp:coreProperties>
</file>