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304-9768-4B43-BC0A-BA9D1F19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DBE-1B5F-4873-B015-79BF8E34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A55-EB70-48B2-99E1-77B08C05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A00-53A3-4198-8085-915FF3FB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C67-8821-423D-9089-A26F53FE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956-A0C4-4877-AAF5-32F66577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B14-20BF-4BEA-B423-A696074E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3D7-4D25-4B62-86B0-3E08C24C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41E-8252-444F-99D7-6F3C2606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F95-CC59-4D87-B546-933D45F9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4EE-A999-446D-8A7C-A51C6683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0A7-4025-4DE7-83AA-65D658CD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FF0E-04D7-4489-8E1B-F3373627A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بعرض لبرنامج  الشؤون الإدارية ( المعـتمد )  حيث  يعمل البرنامج على تنفي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جميع الإجراءات الإدارية من خلال عدة بنود ادارية اساسية وهى كالتالى: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قاعدة بيانات لاستيعاب مالا نهاية من بيانات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دخال بيانات الموظف مرة واحدة بالبرنامج   &amp;  طباعة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جميع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نماذج الحكومية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لبرنامج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على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ورق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بي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ضافة موظف جديد -  تعديل بيانات موظف  - حذف موظف  - حذف الكل  - طبا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نماذج -  تحويل بيانات الموظف إلى الأرشيف  في حالة إنهاء خدمته  بالشرك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استدعاء البيانات مرة أخرى في حالة تطلبت الحاجة  لبيانات الموظف واسترجا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كشوف الموظفين حسب : الجنسية - الراتب - المهنة - حسب القسم التابع له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تاريخ الدخول -هويات الموظفين- حافظة مستندات الموظفين - صور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رواتب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: صرف الرواتب - كشف الرواتب حسب القسم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احتساب الإضافي - الخص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غياب والخصم من الراتب  تلقائي - صرف الرواتب حسب موظف - كل الموظفين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الموظفين المسجل عليهم خصم فقط  -  الموظفين الذي لديهم خصم وإضافي مع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راتب حسب  بنك معين - أو فرع معين - احتساب مـدة ساعات غياب الموظ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 من الراتب تلقائي - احتساب الإضافي على الراتب حسب ساعات العم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أيام عادية -  أيام الجمعة -  أيام الأعياد - وكذلك الخصم - سندات صرف الروات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للموظفين  -  إيقاف صرف الراتب لموظفين معينين -  إلغاء إيقاف صرف  الراتب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بدلات -  احتساب بدل مواصلات  -  بدل سكن -   امكانية تحديد بدلات أخرى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حتساب نهاية الخدمة حسب قانون العمل :  من بداية تاريخ التعين الى الفترة التى يت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حديدها  من قبل  المستخدم - لكل موظف على حدة - لكل الموظفين -  عمل ميز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ستحقات الموظفين  سنوية  - استلام المستحقات - قائمة العاملين  بالشركة – سند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مستحقات  - خصم أيام الغياب واجازات على الحساب من مدة خدمة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لقائي  -   تصنيف الموظفين  بصرف المستحقات   حسب الفئة  الأولى   -  الث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سلف :  طلب سلفة -  تحديد أقساط السلف -  خصم السلف من الراتب تلقائي  - إيق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سلفة - تنشيط  خصم السلف لفترة محدودة - استعلام عن قيمة السلف لدى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تبقي لدى الموظفين من السلف - سلف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إجازات :   طلب أجازه  -  انتهاء الإجازات  -  أشعار عودة  -  احتساب آو خصم نو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اجازة من الرصيد  المستحق   تقارير تفصليه عن إجازات كل موظف  -  تقار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إجازات كل الموظفين  -  أنواع الإجازات  - احتساب الإجازات التي على ال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من  مستحقات نهاية الخدمة - خصم الإجازات المدفوعة من الرصيد 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نتهاء إجازات الموظفين - المتبقى من رصيد اجازات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ألا قامات : انتهاء ألا قامات خلال فترة  تحدد من المستخدم  -  تنبيه بانتهاء اق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وظفين قبل فترة زمنية من الانتـ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جوازات  :  تنبيه بانتهاء الجوازات قـبل فـترة زمنية من الانتهاء -  طلب است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جوازات  -  جوازات لدى الموظفين - إقرار استلام الجواز - استعلام عن جوازات لد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وظفين  -  استعلامات متعددة عن الجواز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النماذج الحكومية : الشؤون - الجوازات - المنافذ - التفتيش - عقد العمل - التجـــا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لدية  - البصمات  - الصحة  - الزيارات التجارية :  إدخال بيانات الزيارات  -  مــ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زيـارة  -   التنبيه بانتهاء الزيارة قبل أسبوع من الانت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شؤون :  إصدار إذن عمــل - إصـدار تصريح عمـل - تـجديد إ</a:t>
            </a:r>
            <a:r>
              <a:rPr b="1" lang="ar-KW" sz="2400" spc="-1" strike="noStrike">
                <a:solidFill>
                  <a:srgbClr val="ffffff"/>
                </a:solidFill>
                <a:latin typeface="Sultan normal"/>
              </a:rPr>
              <a:t>ذن عمل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- إلغـ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 تـحويل  - الغاء نهائى للسفر - عقد عمـ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داخلية :  زيارة -  عدم ممانعة -  سمة مرور -   إقامة أول مرة  -  تجديد إقا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قل إقامة   -  تمديد الاقامة – إلغاء نهائى - نموذج المنافذ - حركة الدخول والخرو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جارة : نموذج فتح شركة -  تعديل شركة -  تأسيس -  فتح فرع  -  فت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ؤسسة جديدة -  تعديل – تجديد رخصة - إض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فتيش :  كشف الرواتب الشهرى  -  طلب إصدار شهادة تحويل أجور  -  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تغيبين -  عمال بإجاز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لدية  :  انتهاء كرت الصحة - تجديد الشهادات الصحية للموظفين - تراخي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إعلانات - الفحص الطب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صمات  :  نظام الحصول على بصمة -  صحيفة الحالة للادلة -   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سوابق -  أخطار بص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حضور والانصراف :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تقارير عن كل موظف عـن عــدد ساعات التأخير يوم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شهري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الحضور  والانصراف لكل موظف خلال فترة  -  كل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خلال فترة   -   إمكانية  تركيب  جهــاز البصمة  بالبرنامج  تقارير متعددة عن حضو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انصراف الموظفين - ترحيل عدد ساعات  التأخيرأو عدد أيام الغياب تلقائي ب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عهدة  :  أنواع العهدة  -  العهدة  المتوفرة لدي الموظفين  -  حالة العهد - أذن استل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وتسليم عهدة -  استعلام عن العه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تنبيه بانتهاء جميع التراخيص التجارية   -  اعتماد التوقيع   -  رخصة الاستيراد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عتماد المرور  -  غرفة التجارة   شهادة  لجنة المناقصات  -   العمالة  الوطنية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أخرى  -   استعلام بفترة زمنية عن تراخيص  ستنته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سيارات  : إدخال بيانات السيارات  -  تعديل  -  شركات التأمين  -  السائقين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تنبيه بانتهاء التامين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 أ نوع السيارات   -  استعلام عن السائقين 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ستعلامات متنوعة   -  أنواع التأمين  - حالة السيارات  -  استلام وتسل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نظام الصلاحيات للمستخدمين  :   تحديد الصلاحيات لكل مستخدم  -  إضافة مستخد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حذف مستخدم  -  تغير  كلمة المرور –  تعديل وتغير صلاحيات المستخدمين من قب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استخدام  وسرعة البحث إمكانية التعديل والإضافة على  البرنامج مع إمكانية 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على الشبكة  -  إمكانية عمل نسخة  احتياطية من قاعدة البيانات  يدوى  أو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تلقائي بالإضافة إلى استرجاع قاعدة البيانات في حالة حدوث تلف آو عطل بالجها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فالة على البرنامج  وتدريب ودعم فنى                    (  البرنامج ثنائى اللغة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ما يوجد شرح وافى على استخدام والتعامل مع نوافذ البرنامج بالصوت والص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4-30T23:15:53Z</dcterms:modified>
  <cp:revision>8</cp:revision>
  <dc:subject/>
  <dc:title>عرض تقديمي من PowerPoint</dc:title>
</cp:coreProperties>
</file>