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402B-58D7-43A5-846E-A5D60C2D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53D3-B531-40D8-BEFC-8873883A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4EC6-4C89-4773-9EFF-03E5CF79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FD96-2A30-498A-B181-8B288E1C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641B-2BEE-4C6C-9478-250E1001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78B6-ABFA-47E3-A045-20A06BD0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CEFB-E21A-4BE9-B8AA-5764AE82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1475-94EF-4BC6-B0EF-5381AD1A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CA8-4013-45EB-BFF5-EFC259DF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3009-61B5-4794-9473-32EB2BF1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900D-2CAA-49FF-A760-4CD36345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010C-946D-4ED0-BDE4-850A3F3D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6342-8BB5-4A8D-8A75-B5D78F309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نتشرف بعرض لبرنامج  الشؤون الإدارية ( المعـتمد )  حيث  يعمل البرنامج على تنفيذ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جميع الإجراءات الإدارية من خلال عدة بنود ادارية اساسية وهى كالتالى: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قاعدة بيانات لاستيعاب مالا نهاية من بيانات الموظف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إدخال بيانات الموظف مرة واحدة بالبرنامج   &amp;  طباعة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جميع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لنماذج الحكومية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بالبرنامج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على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ورق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بي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إضافة موظف جديد -  تعديل بيانات موظف  - حذف موظف  - حذف الكل  - طبا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نماذج -  تحويل بيانات الموظف إلى الأرشيف  في حالة إنهاء خدمته  بالشرك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استدعاء البيانات مرة أخرى في حالة تطلبت الحاجة  لبيانات الموظف واسترجا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كشوف الموظفين حسب : الجنسية - الراتب - المهنة - حسب القسم التابع له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سب تاريخ الدخول -هويات الموظفين- حافظة مستندات الموظفين - صور الموظف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رواتب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: صرف الرواتب - كشف الرواتب حسب القسم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- احتساب الإضافي - الخص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غياب والخصم من الراتب  تلقائي - صرف الرواتب حسب موظف - كل الموظفين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سب الموظفين المسجل عليهم خصم فقط  -  الموظفين الذي لديهم خصم وإضافي مع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صرف الراتب حسب  بنك معين - أو فرع معين - احتساب مـدة ساعات غياب الموظف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خصمها  من الراتب تلقائي - احتساب الإضافي على الراتب حسب ساعات العم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أيام عادية -  أيام الجمعة -  أيام الأعياد - وكذلك الخصم - سندات صرف الروات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للموظفين  -  إيقاف صرف الراتب لموظفين معينين -  إلغاء إيقاف صرف  الراتب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بدلات -  احتساب بدل مواصلات  -  بدل سكن -   امكانية تحديد بدلات أخرى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حتساب نهاية الخدمة حسب قانون العمل :  من بداية تاريخ التعين الى الفترة التى يت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تحديدها  من قبل  المستخدم - لكل موظف على حدة - لكل الموظفين -  عمل ميز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مستحقات الموظفين  سنوية  - استلام المستحقات - قائمة العاملين  بالشركة – سند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صرف المستحقات  - خصم أيام الغياب واجازات على الحساب من مدة خدمة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تلقائي  -   تصنيف الموظفين  بصرف المستحقات   حسب الفئة  الأولى   -  الث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سلف :  طلب سلفة -  تحديد أقساط السلف -  خصم السلف من الراتب تلقائي  - إيق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سلفة - تنشيط  خصم السلف لفترة محدودة - استعلام عن قيمة السلف لدى الموظف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متبقي لدى الموظفين من السلف - سلف أخر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الإجازات :   طلب أجازه  -  انتهاء الإجازات  -  أشعار عودة  -  احتساب آو خصم نو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اجازة من الرصيد  المستحق   تقارير تفصليه عن إجازات كل موظف  -  تقار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إجازات كل الموظفين  -  أنواع الإجازات  - احتساب الإجازات التي على الحسا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خصمها من  مستحقات نهاية الخدمة - خصم الإجازات المدفوعة من الرصيد - تنبي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بانتهاء إجازات الموظفين - المتبقى من رصيد اجازات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ألا قامات : انتهاء ألا قامات خلال فترة  تحدد من المستخدم  -  تنبيه بانتهاء اق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موظفين قبل فترة زمنية من الانتـه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الجوازات  :  تنبيه بانتهاء الجوازات قـبل فـترة زمنية من الانتهاء -  طلب استل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جوازات  -  جوازات لدى الموظفين - إقرار استلام الجواز - استعلام عن جوازات لد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موظفين  -  استعلامات متعددة عن الجواز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1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النماذج الحكومية : الشؤون - الجوازات - المنافذ - التفتيش - عقد العمل - التجـــار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لدية  - البصمات  - الصحة  - الزيارات التجارية :  إدخال بيانات الزيارات  -  مــد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زيـارة  -   التنبيه بانتهاء الزيارة قبل أسبوع من الانته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شؤون :  إصدار إذن عمــل - إصـدار تصريح عمـل - تـجديد إ</a:t>
            </a:r>
            <a:r>
              <a:rPr b="1" lang="ar-KW" sz="2400" spc="-1" strike="noStrike">
                <a:solidFill>
                  <a:srgbClr val="ffffff"/>
                </a:solidFill>
                <a:latin typeface="Sultan normal"/>
              </a:rPr>
              <a:t>ذن عمل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- إلغـا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 تـحويل  - الغاء نهائى للسفر - عقد عمـ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داخلية :  زيارة -  عدم ممانعة -  سمة مرور -   إقامة أول مرة  -  تجديد إقا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قل إقامة   -  تمديد الاقامة – إلغاء نهائى - نموذج المنافذ - حركة الدخول والخرو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تجارة : نموذج فتح شركة -  تعديل شركة -  تأسيس -  فتح فرع  -  فت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مؤسسة جديدة -  تعديل – تجديد رخصة - إضاف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تفتيش :  كشف الرواتب الشهرى  -  طلب إصدار شهادة تحويل أجور  -  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متغيبين -  عمال بإجاز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بلدية  :  انتهاء كرت الصحة - تجديد الشهادات الصحية للموظفين - تراخي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إعلانات - الفحص الطب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بصمات  :  نظام الحصول على بصمة -  صحيفة الحالة للادلة -   بيان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سوابق -  أخطار بص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2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حضور والانصراف :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تقارير عن كل موظف عـن عــدد ساعات التأخير يوم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شهري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استعلام عن الحضور  والانصراف لكل موظف خلال فترة  -  كل الموظف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خلال فترة   -   إمكانية  تركيب  جهــاز البصمة  بالبرنامج  تقارير متعددة عن حضو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انصراف الموظفين - ترحيل عدد ساعات  التأخيرأو عدد أيام الغياب تلقائي بالبرنام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3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عهدة  :  أنواع العهدة  -  العهدة  المتوفرة لدي الموظفين  -  حالة العهد - أذن استل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وتسليم عهدة -  استعلام عن العه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4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تنبيه بانتهاء جميع التراخيص التجارية   -  اعتماد التوقيع   -  رخصة الاستيراد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اعتماد المرور  -  غرفة التجارة   شهادة  لجنة المناقصات  -   العمالة  الوطنية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أخرى  -   استعلام بفترة زمنية عن تراخيص  ستنته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لسيارات  : إدخال بيانات السيارات  -  تعديل  -  شركات التأمين  -  السائقين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تنبيه بانتهاء التامين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استعلام عن  أ نوع السيارات   -  استعلام عن السائقين 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استعلامات متنوعة   -  أنواع التأمين  - حالة السيارات  -  استلام وتسلي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- نظام الصلاحيات للمستخدمين  :   تحديد الصلاحيات لكل مستخدم  -  إضافة مستخد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حذف مستخدم  -  تغير  كلمة المرور –  تعديل وتغير صلاحيات المستخدمين من قب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مسئول بأي وق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بالإضافة إلى البنود الفرعية المدرجة بالبرنامج والتقارير التفصيلية. سهوله 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استخدام  وسرعة البحث إمكانية التعديل والإضافة على  البرنامج مع إمكانية 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رنامج على الشبكة  -  إمكانية عمل نسخة  احتياطية من قاعدة البيانات  يدوى  أو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تلقائي بالإضافة إلى استرجاع قاعدة البيانات في حالة حدوث تلف آو عطل بالجها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كفالة على البرنامج  وتدريب ودعم فنى                    (  البرنامج ثنائى اللغة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كما يوجد شرح وافى على استخدام والتعامل مع نوافذ البرنامج بالصوت والصو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4-30T23:15:53Z</dcterms:modified>
  <cp:revision>8</cp:revision>
  <dc:subject/>
  <dc:title>عرض تقديمي من PowerPoint</dc:title>
</cp:coreProperties>
</file>